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67A-69C3-40B3-8A52-6A04C7C2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FF2-D3F7-44F6-A5B5-F8EFEF2D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EB3-2C2A-4EBC-BA78-3B97DA3C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9D5-B786-42B0-8C84-BE1F319A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D758-EB03-4F59-9273-F6928905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87D0-AE09-480F-91D7-FA93ACA2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63B3-233B-4E4C-B557-4FE71120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98D4-18FF-4100-BF7A-3CC71AA0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11D1-44A8-40CF-B8F4-838FC73C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D618-3265-4E98-B334-949180AA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81E2-DF56-453E-A0BE-C08F965E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BEA-5B65-458B-9C6A-26EC59B5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5EE5-D0F5-4147-86F8-AA25B952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B899-A388-48DA-B937-DD8C55AB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0D6F-03EB-4F57-BA09-1E1DF60D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DA7C-9D56-4D2F-ADCF-CF69442F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0228-58A7-4AD8-84DB-BC7F1DA6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A45-95B6-4AF5-8604-BCE9BE36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3EB-361D-4B95-91A0-FA24241F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41B-2A64-4511-B8D2-A3DBE5D5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1F9-BCF2-4DE1-A596-B9481D80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98E-CEB6-4518-8DF6-44A04C01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DCC-C943-457B-B793-80C542AC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2C1-36DA-40BD-94DA-618FA7B2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7DF7-2A51-4B2B-B91D-021FBB1B0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EDF2-8BDC-4810-9DB0-439D448AD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1720" y="1357200"/>
            <a:ext cx="700056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0200" y="3643200"/>
            <a:ext cx="4214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56880" y="1600200"/>
            <a:ext cx="68295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ontent.foto.mail.ru/bk/u1177/_blogs/i-1108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cle.pickens.k12.sc.us/images/announcement/142542-2081126-857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User\Рабочий стол\картинки на школьныю тему\Рисунок3.png"/>
          <p:cNvPicPr/>
          <p:nvPr/>
        </p:nvPicPr>
        <p:blipFill>
          <a:blip r:embed="rId2"/>
          <a:stretch/>
        </p:blipFill>
        <p:spPr>
          <a:xfrm>
            <a:off x="357120" y="1428840"/>
            <a:ext cx="142884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54:40Z</dcterms:created>
  <dc:creator>Comp</dc:creator>
  <dc:description/>
  <dc:language>en-US</dc:language>
  <cp:lastModifiedBy>Comp</cp:lastModifiedBy>
  <dcterms:modified xsi:type="dcterms:W3CDTF">2011-08-01T00:22:11Z</dcterms:modified>
  <cp:revision>4</cp:revision>
  <dc:subject/>
  <dc:title>Слайд 1</dc:title>
</cp:coreProperties>
</file>